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972800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0BA3-DCB1-4C6C-85B2-313A3BC1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2240" y="660852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BED-3CC1-4689-B741-899627E1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232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A0A0-E075-42CF-92D0-D616E69B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620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3016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224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620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3016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812-7301-4E04-8492-1734870E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D4E-BFFE-452A-AA2C-7161BDCD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2F0-406E-4CAB-9049-F24BC598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9F38-54BF-4CB7-92B3-EEBEDD6B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A7A5-6BBA-4A27-ADCD-D9C9D1EA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2240" y="974880"/>
            <a:ext cx="932832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552-0D25-4A12-B92D-380759BD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854-8F5A-4039-BA83-262BF362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232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E2C-134E-4B71-A3FF-64EF4BF2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6B8-6706-4A20-8235-EE09034F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marL="469800" indent="-469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19160" indent="-3920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566720" indent="-312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2193840" indent="-3124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2240" y="9997560"/>
            <a:ext cx="228600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9997560"/>
            <a:ext cx="347328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9997560"/>
            <a:ext cx="228600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 algn="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fld id="{15E171BF-842A-4069-8622-A7984B12E40C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111480"/>
            <a:ext cx="10683720" cy="786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 rot="18900000">
            <a:off x="7762680" y="-650880"/>
            <a:ext cx="228600" cy="725832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7258320"/>
              <a:gd name="textAreaBottom" fmla="*/ 7224840 h 7258320"/>
            </a:gdLst>
            <a:ahLst/>
            <a:rect l="textAreaLeft" t="textAreaTop" r="textAreaRight" b="textAreaBottom"/>
            <a:pathLst>
              <a:path w="21600" h="684781">
                <a:moveTo>
                  <a:pt x="10800" y="0"/>
                </a:moveTo>
                <a:arcTo wR="10800" hR="10800" stAng="16200000" swAng="-5400000"/>
                <a:lnTo>
                  <a:pt x="0" y="673981"/>
                </a:lnTo>
                <a:arcTo wR="10800" hR="10800" stAng="10800000" swAng="-5400000"/>
                <a:lnTo>
                  <a:pt x="10800" y="68478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rot="18900000">
            <a:off x="6339240" y="564120"/>
            <a:ext cx="228600" cy="58212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5821200"/>
              <a:gd name="textAreaBottom" fmla="*/ 5787720 h 5821200"/>
            </a:gdLst>
            <a:ahLst/>
            <a:rect l="textAreaLeft" t="textAreaTop" r="textAreaRight" b="textAreaBottom"/>
            <a:pathLst>
              <a:path w="21600" h="549204">
                <a:moveTo>
                  <a:pt x="10800" y="0"/>
                </a:moveTo>
                <a:arcTo wR="10800" hR="10800" stAng="16200000" swAng="-5400000"/>
                <a:lnTo>
                  <a:pt x="0" y="538404"/>
                </a:lnTo>
                <a:arcTo wR="10800" hR="10800" stAng="10800000" swAng="-5400000"/>
                <a:lnTo>
                  <a:pt x="10800" y="5492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rot="18900000">
            <a:off x="4701960" y="1773000"/>
            <a:ext cx="228600" cy="392796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3927960"/>
              <a:gd name="textAreaBottom" fmla="*/ 3894480 h 3927960"/>
            </a:gdLst>
            <a:ahLst/>
            <a:rect l="textAreaLeft" t="textAreaTop" r="textAreaRight" b="textAreaBottom"/>
            <a:pathLst>
              <a:path w="21600" h="370596">
                <a:moveTo>
                  <a:pt x="10800" y="0"/>
                </a:moveTo>
                <a:arcTo wR="10800" hR="10800" stAng="16200000" swAng="-5400000"/>
                <a:lnTo>
                  <a:pt x="0" y="359796"/>
                </a:lnTo>
                <a:arcTo wR="10800" hR="10800" stAng="10800000" swAng="-5400000"/>
                <a:lnTo>
                  <a:pt x="10800" y="3705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2700000">
            <a:off x="4777200" y="4028760"/>
            <a:ext cx="228600" cy="171252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1712520"/>
              <a:gd name="textAreaBottom" fmla="*/ 1679040 h 1712520"/>
            </a:gdLst>
            <a:ahLst/>
            <a:rect l="textAreaLeft" t="textAreaTop" r="textAreaRight" b="textAreaBottom"/>
            <a:pathLst>
              <a:path w="21600" h="161592">
                <a:moveTo>
                  <a:pt x="10800" y="0"/>
                </a:moveTo>
                <a:arcTo wR="10800" hR="10800" stAng="16200000" swAng="-5400000"/>
                <a:lnTo>
                  <a:pt x="0" y="150792"/>
                </a:lnTo>
                <a:arcTo wR="10800" hR="10800" stAng="10800000" swAng="-5400000"/>
                <a:lnTo>
                  <a:pt x="10800" y="16159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rot="2700000">
            <a:off x="2827800" y="-609480"/>
            <a:ext cx="228600" cy="70848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7084800"/>
              <a:gd name="textAreaBottom" fmla="*/ 7051320 h 7084800"/>
            </a:gdLst>
            <a:ahLst/>
            <a:rect l="textAreaLeft" t="textAreaTop" r="textAreaRight" b="textAreaBottom"/>
            <a:pathLst>
              <a:path w="21600" h="668411">
                <a:moveTo>
                  <a:pt x="10800" y="0"/>
                </a:moveTo>
                <a:arcTo wR="10800" hR="10800" stAng="16200000" swAng="-5400000"/>
                <a:lnTo>
                  <a:pt x="0" y="657611"/>
                </a:lnTo>
                <a:arcTo wR="10800" hR="10800" stAng="10800000" swAng="-5400000"/>
                <a:lnTo>
                  <a:pt x="10800" y="6684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rot="2700000">
            <a:off x="3299760" y="2895120"/>
            <a:ext cx="228600" cy="310068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3100680"/>
              <a:gd name="textAreaBottom" fmla="*/ 3067200 h 3100680"/>
            </a:gdLst>
            <a:ahLst/>
            <a:rect l="textAreaLeft" t="textAreaTop" r="textAreaRight" b="textAreaBottom"/>
            <a:pathLst>
              <a:path w="21600" h="292551">
                <a:moveTo>
                  <a:pt x="10800" y="0"/>
                </a:moveTo>
                <a:arcTo wR="10800" hR="10800" stAng="16200000" swAng="-5400000"/>
                <a:lnTo>
                  <a:pt x="0" y="281751"/>
                </a:lnTo>
                <a:arcTo wR="10800" hR="10800" stAng="10800000" swAng="-5400000"/>
                <a:lnTo>
                  <a:pt x="10800" y="29255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700000">
            <a:off x="7214760" y="2687040"/>
            <a:ext cx="34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b4"/>
                </a:solidFill>
                <a:latin typeface="Geneva"/>
              </a:rPr>
              <a:t>Tools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700000">
            <a:off x="4465440" y="2579040"/>
            <a:ext cx="502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6b08"/>
                </a:solidFill>
                <a:latin typeface="Geneva"/>
              </a:rPr>
              <a:t>Evolution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700000">
            <a:off x="3776760" y="2803320"/>
            <a:ext cx="302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Geneva"/>
              </a:rPr>
              <a:t>Bi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686800" y="8839080"/>
            <a:ext cx="2209680" cy="2060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66560" y="8763120"/>
            <a:ext cx="6863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323232"/>
                </a:solidFill>
                <a:latin typeface="Arial"/>
              </a:rPr>
              <a:t>Hackatho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04:33:58Z</dcterms:created>
  <dc:creator>GMOD / NESCent</dc:creator>
  <dc:description/>
  <dc:language>en-US</dc:language>
  <cp:lastModifiedBy>GMOD / NESCent</cp:lastModifiedBy>
  <dcterms:modified xsi:type="dcterms:W3CDTF">2010-06-22T22:08:14Z</dcterms:modified>
  <cp:revision>14</cp:revision>
  <dc:subject/>
  <dc:title>PowerPoint Presentation</dc:title>
</cp:coreProperties>
</file>